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bomb.wav" ContentType="audio/x-wav"/>
  <Override PartName="/ppt/media/explode.wav" ContentType="audio/x-wav"/>
  <Override PartName="/ppt/media/wind.wav" ContentType="audio/x-wav"/>
  <Override PartName="/ppt/media/laser.wav" ContentType="audio/x-wav"/>
  <Override PartName="/ppt/media/arrow.wav" ContentType="audio/x-wav"/>
  <Override PartName="/ppt/media/drumroll.wav" ContentType="audio/x-wav"/>
  <Override PartName="/ppt/media/hammer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347-851A-41B2-8D88-42B01E4E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4DE-1093-45B9-844F-F32DCD8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745-D81D-4754-A725-3C645407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97D-9FC0-430D-B8A9-C5EAA480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EADB-CB0C-45B4-8069-8612CC8E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68FD-FD85-4844-BE62-FB9D2C2D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7B4-A8E1-47C8-BB27-82BC38E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364-C685-4FA6-AD78-B8E5DEBC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E552-1CBF-4A16-9C6E-9DF5BE1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322B-9EDA-4DF7-8969-C319B85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1C8B-4A85-40F3-8BE1-2433099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EEA-2BFA-4E86-AEBA-093AB68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95E-B568-49DD-A233-EF8D5C8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7B6-32CD-4A04-8A92-381D557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E33-5E4E-4B3A-AB6A-51809C61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C9A-A9A9-4299-9C8A-1F46E042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01E7-6043-4DEA-80D7-CBEC2481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284-0BB0-453B-BA44-5B39434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59A-3FE1-4098-97F1-D3EF3A8B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E7A-527A-49EA-BE8C-3E04BED8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1BA-9D39-452F-86A3-FF4D292B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2FB-CFD5-4FEE-92BA-5E3E92F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397-B762-4ABC-A600-1302A1EE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614-A031-49C6-91CA-5039658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E7A0-242D-4BDF-BC6D-E5390503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7CA-ADEA-455F-B9AA-A9679578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drumroll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explode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wind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2743200"/>
            <a:ext cx="6032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Gisha"/>
                <a:ea typeface="Gisha"/>
              </a:rPr>
              <a:t>Make a single SNAPSHOT moment from your life come to life for the reade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496040" cy="1346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isha"/>
                <a:ea typeface="Gisha"/>
              </a:rPr>
              <a:t>Sim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a comparison usi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like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ny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ubbor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ck beans and rice…the perfect combin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496040" cy="126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isha"/>
                <a:ea typeface="Gisha"/>
              </a:rPr>
              <a:t>Metaph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a comparison of two unlikely thing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be such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i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Leave some for the rest of u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5480" y="304920"/>
            <a:ext cx="6400800" cy="1193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Descriptive Writing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 and upload with today’s posting commentary. Let us know where you are in the writing process and if you need anything from your communit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1) Silently read today’s mentor text 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all the way through.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2) At the top of your page, type and label your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 summing up what the text is mostly about. 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7030a0"/>
                </a:solidFill>
                <a:latin typeface="Gisha"/>
                <a:ea typeface="Gisha"/>
              </a:rPr>
              <a:t>Tell Statement: </a:t>
            </a:r>
            <a:br>
              <a:rPr sz="1600"/>
            </a:br>
            <a:r>
              <a:rPr b="1" lang="en-US" sz="1600" spc="-1" strike="noStrike">
                <a:solidFill>
                  <a:srgbClr val="7030a0"/>
                </a:solidFill>
                <a:latin typeface="Gisha"/>
                <a:ea typeface="Gisha"/>
              </a:rPr>
              <a:t>This  text is about the day the author’s  brother broke her collarbone for the third time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3) Read the text a second time and annotate your thoughts or in other words, “talk to the text” about what made the author’s description of the moment colorful and aliv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Jester"/>
              </a:rPr>
              <a:t>2) </a:t>
            </a: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Now… open up your rough draft from yesterday and read it silently all the way through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Start by writing  and labeling your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Gisha"/>
                <a:ea typeface="Gisha"/>
              </a:rPr>
              <a:t>TELL Statement</a:t>
            </a:r>
            <a:r>
              <a:rPr b="0" lang="en-US" sz="3200" spc="-1" strike="noStrike">
                <a:solidFill>
                  <a:srgbClr val="7030a0"/>
                </a:solidFill>
                <a:latin typeface="Gisha"/>
                <a:ea typeface="Gisha"/>
              </a:rPr>
              <a:t> at the top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Jester"/>
              </a:rPr>
              <a:t>Tell Statement: </a:t>
            </a:r>
            <a:r>
              <a:rPr b="0" i="1" lang="en-US" sz="3200" spc="-1" strike="noStrike">
                <a:solidFill>
                  <a:srgbClr val="7030a0"/>
                </a:solidFill>
                <a:latin typeface="Jester"/>
              </a:rPr>
              <a:t>The greatest day of my life was when I won the district spelling be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4680"/>
            <a:ext cx="6400800" cy="1595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Characteristics of Descriptive Writing 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723888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 we will begin editing and revis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go through each of the next slides BEFORE beginning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Gish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the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Gisha"/>
                <a:ea typeface="Gisha"/>
              </a:rPr>
              <a:t>5 senses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 to describe the momen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2895120"/>
            <a:ext cx="2895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1640" y="3886200"/>
            <a:ext cx="4000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lp your reader hear, smell, taste, see and feel parts of your snapshot momen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Image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nt a picture with words using details that allow the reader to see in his or her mind the same thing you see in you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Specific Descriptive Words</a:t>
            </a:r>
            <a:br>
              <a:rPr sz="3600"/>
            </a:br>
            <a:r>
              <a:rPr b="1" lang="en-US" sz="2000" spc="-1" strike="noStrike">
                <a:solidFill>
                  <a:srgbClr val="7030a0"/>
                </a:solidFill>
                <a:latin typeface="Gisha"/>
                <a:ea typeface="Gisha"/>
              </a:rPr>
              <a:t>vivid verbs – awesome adjec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goo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o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rumpti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l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sha"/>
                <a:ea typeface="Gisha"/>
              </a:rPr>
              <a:t>Use figurative langu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728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aph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i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19:23Z</dcterms:created>
  <dc:creator>Tammy</dc:creator>
  <dc:description/>
  <dc:language>en-US</dc:language>
  <cp:lastModifiedBy>Tammy</cp:lastModifiedBy>
  <dcterms:modified xsi:type="dcterms:W3CDTF">2010-09-16T11:10:50Z</dcterms:modified>
  <cp:revision>38</cp:revision>
  <dc:subject/>
  <dc:title>Modes of Writing</dc:title>
</cp:coreProperties>
</file>